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6895-8364-4536-9A2D-A7A0F1B6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896-BF62-4F9B-9732-0634B7B6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C81-DACB-4962-8C2F-4CEB99AD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BB8-6223-4E50-989E-90C92850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E37B-F000-4F54-9288-52BF98D2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A24E-E718-41FF-BE09-59728237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51D-BBFA-481F-83AC-7807B5DF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2C1C-6C8A-4FB1-9242-C1D85FAE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5D03-DB0A-4009-AE3D-BFB0D2A9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77D0-F0AE-45D3-9EE3-C462482A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8385-37E9-4233-90F2-AFEE1998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4BEB-734B-4571-9BBC-D40C87B8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D5974-540A-4F88-88BF-A193BC4E792F}" type="datetime">
              <a:rPr b="0" lang="en-US" sz="1200" spc="-1" strike="noStrike">
                <a:solidFill>
                  <a:srgbClr val="ffffff"/>
                </a:solidFill>
                <a:latin typeface="Book Antiqu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F4D8E-4014-42A6-9E8B-6A2AD97694C4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Do Now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ook Antiqua"/>
              </a:rPr>
              <a:t>What two types of waves are involved in the workings of a radio?</a:t>
            </a:r>
            <a:endParaRPr b="0" lang="en-US" sz="42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-3016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ook Antiqua"/>
              </a:rPr>
              <a:t>A. radio and sound</a:t>
            </a:r>
            <a:endParaRPr b="0" lang="en-US" sz="42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-3016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ook Antiqua"/>
              </a:rPr>
              <a:t>B. light and sound</a:t>
            </a:r>
            <a:endParaRPr b="0" lang="en-US" sz="42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-3016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ook Antiqua"/>
              </a:rPr>
              <a:t>C. x-ray and infrared</a:t>
            </a:r>
            <a:endParaRPr b="0" lang="en-US" sz="42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-3016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ook Antiqua"/>
              </a:rPr>
              <a:t>D. infrared and light</a:t>
            </a:r>
            <a:endParaRPr b="0" lang="en-US" sz="42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-3016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Study Time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Independent Practice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Closing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Review game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1 sentence summary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. Anticipatory Se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o now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view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llect brochur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2. Foldables or flashcard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3. Independent Practic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4. Closing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view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1 sentence summ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R1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617560"/>
            <a:ext cx="82296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marL="318960" indent="-318960" algn="ctr">
              <a:spcBef>
                <a:spcPts val="15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Book Antiqua"/>
              </a:rPr>
              <a:t>The distance a wave moves the medium from its rest position</a:t>
            </a:r>
            <a:endParaRPr b="0" lang="en-US" sz="64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15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4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R2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2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Book Antiqua"/>
              </a:rPr>
              <a:t>The number of complete waves that pass a point in a certain amount of time</a:t>
            </a:r>
            <a:endParaRPr b="0" lang="en-US" sz="5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R3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Book Antiqua"/>
              </a:rPr>
              <a:t>The ability to do work</a:t>
            </a:r>
            <a:endParaRPr b="0" lang="en-US" sz="6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R4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Book Antiqua"/>
              </a:rPr>
              <a:t>How far the wave travels in a given length of time</a:t>
            </a:r>
            <a:endParaRPr b="0" lang="en-US" sz="55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R5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A disturbance that transfers energy from place to place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R6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Book Antiqua"/>
              </a:rPr>
              <a:t>The distance between two corresponding parts of a wave </a:t>
            </a:r>
            <a:endParaRPr b="0" lang="en-US" sz="63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3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Options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Book Antiqua"/>
              </a:rPr>
              <a:t>Foldable</a:t>
            </a:r>
            <a:endParaRPr b="0" lang="en-US" sz="5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13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Book Antiqua"/>
              </a:rPr>
              <a:t>Flashcards</a:t>
            </a:r>
            <a:endParaRPr b="0" lang="en-US" sz="5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3:38:33Z</dcterms:created>
  <dc:creator>Caroline Roth</dc:creator>
  <dc:description/>
  <dc:language>en-US</dc:language>
  <cp:lastModifiedBy>Caroline Roth</cp:lastModifiedBy>
  <dcterms:modified xsi:type="dcterms:W3CDTF">2011-01-06T22:29:17Z</dcterms:modified>
  <cp:revision>4</cp:revision>
  <dc:subject/>
  <dc:title>Do Now</dc:title>
</cp:coreProperties>
</file>